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whoosh.wav" ContentType="audio/x-wav"/>
  <Override PartName="/ppt/media/image3.jpeg" ContentType="image/jpeg"/>
  <Override PartName="/ppt/media/image4.png" ContentType="image/png"/>
  <Override PartName="/ppt/media/image6.jpeg" ContentType="image/jpe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marL="21600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marL="216000" indent="0" algn="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52000" y="684360"/>
            <a:ext cx="4557960" cy="34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b">
            <a:noAutofit/>
          </a:bodyPr>
          <a:lstStyle>
            <a:lvl1pPr marL="21600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b">
            <a:noAutofit/>
          </a:bodyPr>
          <a:lstStyle>
            <a:lvl1pPr marL="216000" indent="0" algn="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fld id="{263E7897-A5DA-4147-B423-88446B5076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52360" y="684360"/>
            <a:ext cx="4557960" cy="34178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educe short term extinction ri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Supplementation may be used to reduce the risk that a population on the verge of extirpation will be lost by expeditiously boosting the number of emigrating juveniles in a given brood 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reserve population while factors for decline are being address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Supplementation may be used to preserve or increase summer chum salmon populations while other factors causing decreased abundances are addres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peed recovery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upplementation may be used to accelerate recovery of populations by increasing abundances in a shorter time frame than may be achievable through natural produ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stablish a reserve population for use if the natural population suffers a catastrophic loss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upplementation programs may be used to create an additional reservoir for a particular summer chum genome to prevent loss of the entire population due to natural or anthropogenic catastroph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eseed vacant habitat capable of supporting salmon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ummer chum salmon may be reintroduced to streams where populations have been extirpated and the causes of extirpation are being addres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rovide scientific information regarding the use of supplementation in conserving natural populations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Valuable information indicating the effectiveness and effects of supplementation in recovering summer chum salmon can be col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23FF-CD1D-4EB5-BDA9-0C048667D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DF9C-5818-4F8C-B954-9FB5ECD3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9B4E-9E54-408E-96A6-07FA3FE56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42E9-245B-4B15-9F82-ABB141480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36DB7B-3EE2-4F46-91F5-AD1A4CD02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C5E521-6C04-4EEE-B0CA-366E4891B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AD9A19-CAF6-4EA0-9AFF-26B768E3C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43C985-6433-4032-97C1-2852F6CB4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B6055F-51B2-4150-9F76-6FED6BC58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977E7D-B027-4CC6-AA90-45B4D2196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41D6BB-3659-4C59-AFEE-512526A1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21B5-1E38-4394-9930-8A95E3ED3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492E13-4621-481D-8B73-68C15857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79DE02-DD14-4A5D-B36B-5455C836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B51AEA-29A2-44D7-9A5B-FCA55ACF6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914FD3-EB0C-4903-9C7E-B7DCFFE99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27C067-9614-4C09-8436-899D7DBE9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DC33-CB12-42AB-9DA9-A4DFC4D40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F3D4-51CD-4C32-AAC0-BA8FB6566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47AC-FFDD-4BCD-AC6B-1B42C22EB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8C73-ABDF-4EF0-BB25-78E314FB0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DB25-8408-4B80-B9DF-5E645489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DA6E-D4EB-4992-A3C5-87F1D049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F0FD-1F19-4D93-BCDC-DB73CB0F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03A12-164A-46E3-ABCC-8E81EEF748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0497-3B8B-4488-A9F9-44601E1667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a.gov/wdfw/fish/chum/chum.htm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ddressing the Potential Effect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of Hatchery Interaction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on the ESA-listed Species,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Hood Canal (Washington) Summer Chum Salm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66320" y="3809880"/>
            <a:ext cx="678204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im Tyna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AA Fisheri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hris Well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int No Point Treaty Counci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hom H. Johns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ashington Department of Fish and Wildlif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943600" y="4495680"/>
            <a:ext cx="1066680" cy="800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562720" y="3733920"/>
            <a:ext cx="685800" cy="6681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6705720" y="5486400"/>
            <a:ext cx="68256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isk Ratings for Competition and Behavioral Modifica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IGH Risk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no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art of a formal recovery program, unable to remove &gt;90% of returning hatchery chinook, coho, fall chum or pink spawners (i.e., risk of redd super-imposition and/or competitio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fed or fed fall chum or pink fry released before Apr.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i.e., overlaps with natural outmigration timin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ease timing of hatchery fish is unknow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DERATE Risk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ll chinook released from marine area netpens (i.e., potential straying of spawners into summer chum stream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57200" y="291600"/>
            <a:ext cx="8229600" cy="572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sk Aversion Measur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 Fish Disease Transf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pply protocol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f Pacific Northwest Fish Health Protection Committee (PNFHPC 1989) and Salmonid Disease Control Policy of the Fisheries Co-managers of Washington State (NWIFC and WDFW 1998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nspect prior to releas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ll hatchery production by WDFW or USFWS fish pathologists to certify their disease status and health condi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mplement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1066680"/>
            <a:ext cx="8381880" cy="29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sk aversion and m&amp;e measures were specified for each hatchery program and implemented beginning in 199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ost programs were rated Low risk for all categori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91440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lementation (cont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Programs with High or Moderate risks implemented common measur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15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layed release of fall chum or pink fry until after April 1st;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Reason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to reduce risks of predator attraction or competition for food, or changes in feeding behavior or use of preferred migration areas by summer chum f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15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continued programs releasing hatchery-origin chinook or fall chum in summer chum streams, unless part of a formal recovery program;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Reason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to reduce risk of competition, redd super-imposition and behavior modification with summer chum adul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15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st follow fish health protocols and reporting requirements; N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ot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applied to several volunteer/coop projec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esult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isk assessment process and implementation have generally been successfu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me hatchery programs have been terminated in response to concern about hatchery interac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quired changes have been done with limited effect on day-to-day hatchery oper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me complications with loadings and pond mgt, but all do-a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rminated programs eased up other progra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l volunteer coop projects are now consistent with guideli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tchery interactions measures have been incorporated in hatchery ESA 4(d) rule issued by NOAA Fisheri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Bottom lin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risks to summer chum are reduc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th ESA listings and concerns for recovery of wild popl’ns, there is increasing focus on potential interactions b/w hatchery and wild fis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e and Tribal Co-managers in Washington decided to 1) identify potential negative impacts of hatcheries on ESA-listed summer chum salmon and 2) identify mitigative measures to minimize any risks to summer ch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describe here the approach used and report on initial outco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ackgroun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ch 1999, ESA listing of Hood Canal summer chum salmon Evolutionarily Sig. Unit (ESU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April 2000, Co-managers completed the “Summer Chum Salmon Conservation Initiative, An Implementation Plan to Recover Summer Chum in the Hood Canal and Strait of Juan de Fuca Region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://www.wa.gov/wdfw/fish/chum/chum.ht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2002, ESA 4(d) rule requirements incorporated the hatchery conservation measures identified in the SCSCI (i.e., Resource Mgt Plan – RMP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398600" y="152280"/>
            <a:ext cx="527508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ackground (cont.)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of hatcheries is long-standing and important in the Hood Canal region with WDFW, Tribal, and USFWS facilities, and cooperative projects by volunteer fish enhancement groups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tchery objectives include providing surplus fish for harvest, mitigation for fish production losses due to habitat degradation, and wild salmonid stock recove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r chinook, coho, chum, and pink salmon and steelhead; trout also, but not discussed he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291600"/>
            <a:ext cx="89154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ssessing 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Potential Risks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of Hatchery Activities on Summer Chu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10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verlaid summer chum life history with release/migration timing of hatchery fis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Direct impact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risk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ue to physical operation of hatcheri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Ecological impact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ue to interactions b/w hatchery fish and summer chum: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risk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ue to predation, competition/behavior modification, fish disease transf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685800" y="380880"/>
          <a:ext cx="7924680" cy="6477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80880"/>
                    <a:ext cx="792468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eneral Approac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762120"/>
            <a:ext cx="8382240" cy="70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veloped ratings for each risk category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entified appropriate risk aversion (r.a.) measures for each risk categ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entified monitoring/evaluation (m&amp;e) measures to help make sure the risk aversion measures were implemented successful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n, rated risks of each hatchery program and identified the r.a. and m&amp;e measures needed to reduce any moderate or high risk to a low r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isk Ratings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or Hatchery Operations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HIGH risk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oodstock trap on summer chum stream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n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not checked 2X a day or hold chum for &gt;24 hrs or not handled proper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ter intakes/outlets are not screene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ter withdrawal reduces flows w/ negative impact on summer chum stre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ut of compliance with NPDES permi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21:12:48Z</dcterms:created>
  <dc:creator>TynanT</dc:creator>
  <dc:description/>
  <dc:language>en-US</dc:language>
  <cp:lastModifiedBy>Bob Smith</cp:lastModifiedBy>
  <dcterms:modified xsi:type="dcterms:W3CDTF">2004-03-19T17:19:24Z</dcterms:modified>
  <cp:revision>160</cp:revision>
  <dc:subject/>
  <dc:title>Supplementation Standards for Rebuilding Hood Canal Summer Chum Populations</dc:title>
</cp:coreProperties>
</file>